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Door%20Bell.wav" ContentType="audio/x-wav"/>
  <Override PartName="/ppt/media/image16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23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12.png" ContentType="image/png"/>
  <Override PartName="/ppt/media/image26.png" ContentType="image/png"/>
  <Override PartName="/ppt/media/image3.png" ContentType="image/png"/>
  <Override PartName="/ppt/media/image5.jpeg" ContentType="image/jpeg"/>
  <Override PartName="/ppt/media/image27.png" ContentType="image/png"/>
  <Override PartName="/ppt/media/image4.png" ContentType="image/png"/>
  <Override PartName="/ppt/media/image30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png" ContentType="image/png"/>
  <Override PartName="/ppt/media/image17.png" ContentType="image/png"/>
  <Override PartName="/ppt/media/image28.gif" ContentType="image/gif"/>
  <Override PartName="/ppt/media/Booing,%20Crowd.wav" ContentType="audio/x-wav"/>
  <Override PartName="/ppt/media/image21.png" ContentType="image/png"/>
  <Override PartName="/ppt/media/image19.png" ContentType="image/png"/>
  <Override PartName="/ppt/media/Children,%20Giggle.wav" ContentType="audio/x-wav"/>
  <Override PartName="/ppt/media/image22.png" ContentType="image/png"/>
  <Override PartName="/ppt/media/image14.png" ContentType="image/png"/>
  <Override PartName="/ppt/media/Champagne%20Cork%20Pop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94DD-49DD-4E9F-A7F6-A7D7310FB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1CF1-960E-43BB-89C9-5679F5A4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FA3D-58A8-4D8A-81A2-5DC0D509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4E8C-8501-4F10-AA89-384E0B7CB0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6E3D-8FF9-451B-8857-47AE98D6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7648-624A-408F-953C-175233EC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EE1D-A4B8-4343-A757-663D59CC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AA8D-1EBB-4343-BB4E-2FAD67F6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F079-AABF-4399-9DD6-0A24481D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DEB9-EF01-4771-B796-FBE08F65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576C-D01F-4698-B2ED-282FC877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CF5E-ECD5-446D-ACDA-42551FD8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DC2DA-D546-4AB0-89A3-AF2FE734952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hildren,%20Giggle.wav"/><Relationship Id="rId4" Type="http://schemas.openxmlformats.org/officeDocument/2006/relationships/audio" Target="../media/Booing,%20Crowd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hildren,%20Giggle.wav"/><Relationship Id="rId4" Type="http://schemas.openxmlformats.org/officeDocument/2006/relationships/audio" Target="../media/Booing,%20Crowd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Children,%20Giggle.wav"/><Relationship Id="rId4" Type="http://schemas.openxmlformats.org/officeDocument/2006/relationships/audio" Target="../media/Booing,%20Crowd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hildren,%20Giggle.wav"/><Relationship Id="rId4" Type="http://schemas.openxmlformats.org/officeDocument/2006/relationships/audio" Target="../media/Booing,%20Crowd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00360" y="2087640"/>
            <a:ext cx="5832360" cy="1609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19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Глагол can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4280" y="1214280"/>
            <a:ext cx="35150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1285920" y="642960"/>
            <a:ext cx="2568600" cy="782640"/>
            <a:chOff x="1285920" y="642960"/>
            <a:chExt cx="2568600" cy="782640"/>
          </a:xfrm>
        </p:grpSpPr>
        <p:sp>
          <p:nvSpPr>
            <p:cNvPr id="77" name=""/>
            <p:cNvSpPr/>
            <p:nvPr/>
          </p:nvSpPr>
          <p:spPr>
            <a:xfrm>
              <a:off x="128592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180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214960" y="642960"/>
            <a:ext cx="2568600" cy="782640"/>
            <a:chOff x="5214960" y="642960"/>
            <a:chExt cx="2568600" cy="782640"/>
          </a:xfrm>
        </p:grpSpPr>
        <p:sp>
          <p:nvSpPr>
            <p:cNvPr id="80" name=""/>
            <p:cNvSpPr/>
            <p:nvPr/>
          </p:nvSpPr>
          <p:spPr>
            <a:xfrm>
              <a:off x="521496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29200" y="6429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857240" y="500076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w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ride a bicy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1880" y="5072040"/>
            <a:ext cx="114300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1" dur="indefinite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dur="indefinite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6" dur="indefinite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0" y="2786040"/>
            <a:ext cx="358128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00160" y="178596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rocodiles can sw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85920" y="642960"/>
            <a:ext cx="2568600" cy="782640"/>
            <a:chOff x="1285920" y="642960"/>
            <a:chExt cx="2568600" cy="782640"/>
          </a:xfrm>
        </p:grpSpPr>
        <p:sp>
          <p:nvSpPr>
            <p:cNvPr id="87" name=""/>
            <p:cNvSpPr/>
            <p:nvPr/>
          </p:nvSpPr>
          <p:spPr>
            <a:xfrm>
              <a:off x="128592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180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214960" y="642960"/>
            <a:ext cx="2568600" cy="782640"/>
            <a:chOff x="5214960" y="642960"/>
            <a:chExt cx="2568600" cy="782640"/>
          </a:xfrm>
        </p:grpSpPr>
        <p:sp>
          <p:nvSpPr>
            <p:cNvPr id="90" name=""/>
            <p:cNvSpPr/>
            <p:nvPr/>
          </p:nvSpPr>
          <p:spPr>
            <a:xfrm>
              <a:off x="521496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9200" y="6429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214880" y="1857240"/>
            <a:ext cx="78588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7" dur="indefinite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ildren,%20Giggl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dur="indefinite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dur="indefinite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Booing,%20Crowd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4548" t="3748" r="3030" b="4378"/>
          <a:stretch/>
        </p:blipFill>
        <p:spPr>
          <a:xfrm>
            <a:off x="2428920" y="1857240"/>
            <a:ext cx="3857760" cy="285768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143000" y="714240"/>
            <a:ext cx="2568600" cy="782640"/>
            <a:chOff x="1143000" y="714240"/>
            <a:chExt cx="2568600" cy="782640"/>
          </a:xfrm>
        </p:grpSpPr>
        <p:sp>
          <p:nvSpPr>
            <p:cNvPr id="95" name=""/>
            <p:cNvSpPr/>
            <p:nvPr/>
          </p:nvSpPr>
          <p:spPr>
            <a:xfrm>
              <a:off x="1143000" y="7142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28880" y="78588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72040" y="714240"/>
            <a:ext cx="2568600" cy="782640"/>
            <a:chOff x="5072040" y="714240"/>
            <a:chExt cx="2568600" cy="782640"/>
          </a:xfrm>
        </p:grpSpPr>
        <p:sp>
          <p:nvSpPr>
            <p:cNvPr id="98" name=""/>
            <p:cNvSpPr/>
            <p:nvPr/>
          </p:nvSpPr>
          <p:spPr>
            <a:xfrm>
              <a:off x="5072040" y="7142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86280" y="71424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786040" y="500076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og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f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7760" y="5072040"/>
            <a:ext cx="114300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3" dur="indefinite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dur="indefinite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8" dur="indefinite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43080" y="3000240"/>
            <a:ext cx="5286600" cy="32623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214280" y="642960"/>
            <a:ext cx="2568600" cy="782640"/>
            <a:chOff x="1214280" y="642960"/>
            <a:chExt cx="2568600" cy="782640"/>
          </a:xfrm>
        </p:grpSpPr>
        <p:sp>
          <p:nvSpPr>
            <p:cNvPr id="104" name=""/>
            <p:cNvSpPr/>
            <p:nvPr/>
          </p:nvSpPr>
          <p:spPr>
            <a:xfrm>
              <a:off x="121428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016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072040" y="714240"/>
            <a:ext cx="2568600" cy="782640"/>
            <a:chOff x="5072040" y="714240"/>
            <a:chExt cx="2568600" cy="782640"/>
          </a:xfrm>
        </p:grpSpPr>
        <p:sp>
          <p:nvSpPr>
            <p:cNvPr id="107" name=""/>
            <p:cNvSpPr/>
            <p:nvPr/>
          </p:nvSpPr>
          <p:spPr>
            <a:xfrm>
              <a:off x="5072040" y="7142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86280" y="71424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20001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ar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8960" y="2000160"/>
            <a:ext cx="1214280" cy="71460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9" dur="indefinite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dur="indefinite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4" dur="indefinite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08400" y="2627280"/>
            <a:ext cx="3620880" cy="37432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214280" y="571680"/>
            <a:ext cx="2568600" cy="782280"/>
            <a:chOff x="1214280" y="571680"/>
            <a:chExt cx="2568600" cy="782280"/>
          </a:xfrm>
        </p:grpSpPr>
        <p:sp>
          <p:nvSpPr>
            <p:cNvPr id="113" name=""/>
            <p:cNvSpPr/>
            <p:nvPr/>
          </p:nvSpPr>
          <p:spPr>
            <a:xfrm>
              <a:off x="1214280" y="571680"/>
              <a:ext cx="2568600" cy="78228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0160" y="64296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14960" y="642960"/>
            <a:ext cx="2568600" cy="782640"/>
            <a:chOff x="5214960" y="642960"/>
            <a:chExt cx="2568600" cy="782640"/>
          </a:xfrm>
        </p:grpSpPr>
        <p:sp>
          <p:nvSpPr>
            <p:cNvPr id="116" name=""/>
            <p:cNvSpPr/>
            <p:nvPr/>
          </p:nvSpPr>
          <p:spPr>
            <a:xfrm>
              <a:off x="521496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29200" y="6429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14680" y="164304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lephant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jum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6120" y="1714680"/>
            <a:ext cx="1143000" cy="64260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5" dur="indefinite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dur="indefinite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0" dur="indefinite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85920" y="0"/>
            <a:ext cx="4700520" cy="58752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928800" y="500040"/>
            <a:ext cx="2568600" cy="782640"/>
            <a:chOff x="928800" y="500040"/>
            <a:chExt cx="2568600" cy="782640"/>
          </a:xfrm>
        </p:grpSpPr>
        <p:sp>
          <p:nvSpPr>
            <p:cNvPr id="122" name=""/>
            <p:cNvSpPr/>
            <p:nvPr/>
          </p:nvSpPr>
          <p:spPr>
            <a:xfrm>
              <a:off x="928800" y="5000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14680" y="571680"/>
              <a:ext cx="142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86240" y="500040"/>
            <a:ext cx="2568600" cy="782640"/>
            <a:chOff x="5286240" y="500040"/>
            <a:chExt cx="2568600" cy="782640"/>
          </a:xfrm>
        </p:grpSpPr>
        <p:sp>
          <p:nvSpPr>
            <p:cNvPr id="125" name=""/>
            <p:cNvSpPr/>
            <p:nvPr/>
          </p:nvSpPr>
          <p:spPr>
            <a:xfrm>
              <a:off x="5286240" y="5000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0840" y="500040"/>
              <a:ext cx="13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714680" y="54291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iraffe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d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500800"/>
            <a:ext cx="114300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1" dur="indefinite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dur="indefinite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26" dur="indefinite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rcRect l="0" t="0" r="0" b="3786"/>
          <a:stretch/>
        </p:blipFill>
        <p:spPr>
          <a:xfrm>
            <a:off x="2500200" y="1928880"/>
            <a:ext cx="3810240" cy="278604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000080" y="428760"/>
            <a:ext cx="2568600" cy="782640"/>
            <a:chOff x="1000080" y="428760"/>
            <a:chExt cx="2568600" cy="782640"/>
          </a:xfrm>
        </p:grpSpPr>
        <p:sp>
          <p:nvSpPr>
            <p:cNvPr id="131" name=""/>
            <p:cNvSpPr/>
            <p:nvPr/>
          </p:nvSpPr>
          <p:spPr>
            <a:xfrm>
              <a:off x="1000080" y="4287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5960" y="5000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214960" y="428760"/>
            <a:ext cx="2568600" cy="782640"/>
            <a:chOff x="5214960" y="428760"/>
            <a:chExt cx="2568600" cy="782640"/>
          </a:xfrm>
        </p:grpSpPr>
        <p:sp>
          <p:nvSpPr>
            <p:cNvPr id="134" name=""/>
            <p:cNvSpPr/>
            <p:nvPr/>
          </p:nvSpPr>
          <p:spPr>
            <a:xfrm>
              <a:off x="5214960" y="4287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29200" y="4287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928880" y="50007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sh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w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28960" y="5072040"/>
            <a:ext cx="114300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7" dur="indefinite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dur="indefinite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2" dur="indefinite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00240" y="3071880"/>
            <a:ext cx="3357720" cy="31017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000080" y="642960"/>
            <a:ext cx="2568600" cy="782640"/>
            <a:chOff x="1000080" y="642960"/>
            <a:chExt cx="2568600" cy="782640"/>
          </a:xfrm>
        </p:grpSpPr>
        <p:sp>
          <p:nvSpPr>
            <p:cNvPr id="140" name=""/>
            <p:cNvSpPr/>
            <p:nvPr/>
          </p:nvSpPr>
          <p:spPr>
            <a:xfrm>
              <a:off x="100008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8596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286240" y="642960"/>
            <a:ext cx="2568600" cy="782640"/>
            <a:chOff x="5286240" y="642960"/>
            <a:chExt cx="2568600" cy="782640"/>
          </a:xfrm>
        </p:grpSpPr>
        <p:sp>
          <p:nvSpPr>
            <p:cNvPr id="143" name=""/>
            <p:cNvSpPr/>
            <p:nvPr/>
          </p:nvSpPr>
          <p:spPr>
            <a:xfrm>
              <a:off x="528624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0840" y="642960"/>
              <a:ext cx="13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571840" y="192888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rogs can jump.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7760" y="1928880"/>
            <a:ext cx="78552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3" dur="indefinite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ildren,%20Giggl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dur="indefinite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3" dur="indefinite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Booing,%20Crowd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928880" y="1389240"/>
            <a:ext cx="3886200" cy="32065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1214280" y="571680"/>
            <a:ext cx="2568600" cy="782280"/>
            <a:chOff x="1214280" y="571680"/>
            <a:chExt cx="2568600" cy="782280"/>
          </a:xfrm>
        </p:grpSpPr>
        <p:sp>
          <p:nvSpPr>
            <p:cNvPr id="149" name=""/>
            <p:cNvSpPr/>
            <p:nvPr/>
          </p:nvSpPr>
          <p:spPr>
            <a:xfrm>
              <a:off x="1214280" y="571680"/>
              <a:ext cx="2568600" cy="78228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00160" y="64296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143680" y="785880"/>
            <a:ext cx="2568240" cy="782640"/>
            <a:chOff x="5143680" y="785880"/>
            <a:chExt cx="2568240" cy="782640"/>
          </a:xfrm>
        </p:grpSpPr>
        <p:sp>
          <p:nvSpPr>
            <p:cNvPr id="152" name=""/>
            <p:cNvSpPr/>
            <p:nvPr/>
          </p:nvSpPr>
          <p:spPr>
            <a:xfrm>
              <a:off x="5143680" y="785880"/>
              <a:ext cx="256824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57920" y="785880"/>
              <a:ext cx="13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928880" y="507204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keys can climb.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7760" y="5072040"/>
            <a:ext cx="78552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9" dur="indefinite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ildren,%20Giggl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dur="indefinite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79" dur="indefinite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Booing,%20Crowd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4280" y="1500120"/>
            <a:ext cx="628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I can jump, I can ru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I can sing, I can dan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I can swim, I can’t fl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I can climb and say “good – bye”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29400" y="380880"/>
            <a:ext cx="2068560" cy="251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42960" y="4286160"/>
            <a:ext cx="217152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14280" y="476280"/>
            <a:ext cx="5929560" cy="3952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46240" y="4363920"/>
            <a:ext cx="644364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6240" y="4363920"/>
            <a:ext cx="6991200" cy="249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00120" y="357120"/>
            <a:ext cx="654840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94040" y="4297320"/>
            <a:ext cx="4437000" cy="248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43000" y="428760"/>
            <a:ext cx="714384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8960" y="4297320"/>
            <a:ext cx="7218360" cy="2487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357280" y="428760"/>
            <a:ext cx="28530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94000" y="4297320"/>
            <a:ext cx="4698720" cy="248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357200" y="500040"/>
            <a:ext cx="596592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94000" y="4297320"/>
            <a:ext cx="5230800" cy="248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71760" y="500040"/>
            <a:ext cx="577044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812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match and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143000"/>
            <a:ext cx="3962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w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1219320"/>
            <a:ext cx="3200400" cy="8380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71800" y="1444680"/>
            <a:ext cx="2666880" cy="2063520"/>
          </a:xfrm>
          <a:prstGeom prst="line">
            <a:avLst/>
          </a:prstGeom>
          <a:ln cap="sq"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43200" y="3425400"/>
            <a:ext cx="2895480" cy="1149480"/>
          </a:xfrm>
          <a:prstGeom prst="line">
            <a:avLst/>
          </a:prstGeom>
          <a:ln cap="sq"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876920" y="4111560"/>
            <a:ext cx="914400" cy="46368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549840" y="2815920"/>
            <a:ext cx="1168200" cy="1544760"/>
          </a:xfrm>
          <a:prstGeom prst="line">
            <a:avLst/>
          </a:prstGeom>
          <a:ln cap="sq"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080" y="-225360"/>
            <a:ext cx="3303360" cy="33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57160" y="2643120"/>
            <a:ext cx="1746360" cy="15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928800" y="4286160"/>
            <a:ext cx="2000160" cy="1913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0" t="0" r="0" b="6665"/>
          <a:stretch/>
        </p:blipFill>
        <p:spPr>
          <a:xfrm>
            <a:off x="3571920" y="4500720"/>
            <a:ext cx="198108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000920" y="4357800"/>
            <a:ext cx="151272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0" b="6246"/>
          <a:stretch/>
        </p:blipFill>
        <p:spPr>
          <a:xfrm>
            <a:off x="4929120" y="2857680"/>
            <a:ext cx="3810240" cy="35715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285920" y="642960"/>
            <a:ext cx="2568600" cy="782640"/>
            <a:chOff x="1285920" y="642960"/>
            <a:chExt cx="2568600" cy="782640"/>
          </a:xfrm>
        </p:grpSpPr>
        <p:sp>
          <p:nvSpPr>
            <p:cNvPr id="68" name=""/>
            <p:cNvSpPr/>
            <p:nvPr/>
          </p:nvSpPr>
          <p:spPr>
            <a:xfrm>
              <a:off x="128592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7180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214960" y="642960"/>
            <a:ext cx="2568600" cy="782640"/>
            <a:chOff x="5214960" y="642960"/>
            <a:chExt cx="2568600" cy="782640"/>
          </a:xfrm>
        </p:grpSpPr>
        <p:sp>
          <p:nvSpPr>
            <p:cNvPr id="71" name=""/>
            <p:cNvSpPr/>
            <p:nvPr/>
          </p:nvSpPr>
          <p:spPr>
            <a:xfrm>
              <a:off x="521496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29200" y="6429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928880" y="300024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oxes can run.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14800" y="3000240"/>
            <a:ext cx="78588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dur="indefinite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ildren,%20Giggl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dur="indefinite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dur="indefinite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Booing,%20Crowd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6:54:26Z</dcterms:created>
  <dc:creator>Admin</dc:creator>
  <dc:description/>
  <dc:language>en-US</dc:language>
  <cp:lastModifiedBy>W</cp:lastModifiedBy>
  <dcterms:modified xsi:type="dcterms:W3CDTF">2018-04-02T17:09:34Z</dcterms:modified>
  <cp:revision>91</cp:revision>
  <dc:subject/>
  <dc:title>Слайд 1</dc:title>
</cp:coreProperties>
</file>